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8DF-C71F-4078-8677-D1BB6C81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643-263E-415E-8198-9C241EAC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ED8-5805-4D31-829B-8A9AD83D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D5A-99F1-4856-A5D4-4ADEEA5F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BA4-95A6-44A2-953D-987F196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392-7ADB-49FB-A8BD-5F77E445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A00-5E44-4F7D-B212-14C20940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685-0E41-4174-8D52-8F3B577E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180-B0C8-4954-B62D-392BF840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740-3762-4BC2-A619-F3A6FEB4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950-92C0-48F3-B087-20B66EFD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782-C244-4DF9-A069-3509B5D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79F2-D29A-48F0-B71B-8EE2B875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4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# 41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Cómo repasamos para el examen del Capitulo 2 del viern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Vas al medico cuando tienes catarr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Vas al medico cuando tienes la grip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Quién es el medico de tu famili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Dónde esta su consultori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Si te da una receta, ¿A dónde va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 WORKBOOK: Completa p.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-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7226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609480"/>
            <a:ext cx="2124360" cy="1560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00400" y="1600200"/>
            <a:ext cx="2160720" cy="258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52280" y="3733920"/>
            <a:ext cx="259092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048120" y="4419720"/>
            <a:ext cx="1811160" cy="1884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27432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__________ y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ipe tien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4876920"/>
            <a:ext cx="2590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os tiene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2209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a esta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58831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on esta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4/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ida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5:11:36Z</dcterms:created>
  <dc:creator>Helen Zumaeta</dc:creator>
  <dc:description/>
  <dc:language>en-US</dc:language>
  <cp:lastModifiedBy>Helen Zumaeta</cp:lastModifiedBy>
  <dcterms:modified xsi:type="dcterms:W3CDTF">2013-01-14T20:41:19Z</dcterms:modified>
  <cp:revision>7</cp:revision>
  <dc:subject/>
  <dc:title>Slide 1</dc:title>
</cp:coreProperties>
</file>